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8FBE6-CC2B-4D32-AAF7-9AD9144CA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9631F-9D06-41D8-B7C4-AE3700083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deepgreenpermaculture.com/permaculture/permaculture-design-principles/8-accelerating-succession-and-evolutio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hortchat.com/info/propagating-kalancho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B20BF-BCA6-4C7D-8458-EF8C54554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8A4A4-0887-4F33-9137-B816EE25E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users.rcn.com/jkimball.ma.ultranet/BiologyPages/A/AsexualReproductio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ar tree image from: http://www.theresiliencyinstitute.net/fruit-tree-graft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36CEE-736B-4C86-AE6A-FB0641AC3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607AD-C407-480C-8BDA-65CE2C2DA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torontoist.com/2009/07/a_natural_benefit_of_extended_municipal_strike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BF831-7840-4C60-8467-36C6595BF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B7A2E-5E38-40AA-A44C-8F33CE041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hydroponicsequipment.co/plant-clon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E0353-FD3F-46FE-9B3F-9F1B64666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xtremepapers.com/revision/gcse/biology/reproduction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329F2-59D2-49AF-89F4-2D8268F63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2geneticswikib.wikispaces.com/Sexual+and+Asexual+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01D7-84B0-41CF-A486-5EDAE9AE9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2262-FD38-41E2-92E2-B111420C6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4480-5F90-4893-899A-0ADAB46AC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D42C-8AB9-44F1-AFF7-C8B55CE78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CD44-12F3-448A-BDE3-1233D3ACB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51B4-2DA6-44ED-B76C-8E24F18DB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D6DD-128B-4DB1-AA98-FC7663DF7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E40F-3288-4C69-952C-94799E897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073B-C283-4AF0-9F63-A28626977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93C0-0BFE-467A-99FD-A8F34907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AE78-AFEC-4295-BC88-04112468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D9E5-4763-4A9E-8D38-F9A00C43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D3A0C-A39F-4E1F-A901-892D5AD9E4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TLpc71YOtcE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3.1 - Succ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 of Asexua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one parent plant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less energy &amp;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parental traits are well-suited to environment, offspring will also be well-su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tlets survive better than seedlings from sexual re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advantages of Asexua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genetic diversit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lead to entire population being wiped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m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utting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ed to produce new 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raf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branches of trees onto other t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issue cul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ed to reproduce orchid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Content Placeholder 2" descr="300x200xprop-kalanchoe-300x200.jpg.pagespeed.ic.TT8zDQ4tvU.jpg"/>
          <p:cNvPicPr/>
          <p:nvPr/>
        </p:nvPicPr>
        <p:blipFill>
          <a:blip r:embed="rId1"/>
          <a:srcRect l="19136" t="0" r="19136" b="0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ontent Placeholder 5" descr="Grafting.gif"/>
          <p:cNvPicPr/>
          <p:nvPr/>
        </p:nvPicPr>
        <p:blipFill>
          <a:blip r:embed="rId1"/>
          <a:srcRect l="0" t="-18691" r="0" b="-18691"/>
          <a:stretch/>
        </p:blipFill>
        <p:spPr>
          <a:xfrm>
            <a:off x="611280" y="549360"/>
            <a:ext cx="3884400" cy="5546520"/>
          </a:xfrm>
          <a:prstGeom prst="rect">
            <a:avLst/>
          </a:prstGeom>
          <a:ln w="0">
            <a:noFill/>
          </a:ln>
        </p:spPr>
      </p:pic>
      <p:pic>
        <p:nvPicPr>
          <p:cNvPr id="73" name="Content Placeholder 6" descr="dwarf-pear-tree-2-types.jpg"/>
          <p:cNvPicPr/>
          <p:nvPr/>
        </p:nvPicPr>
        <p:blipFill>
          <a:blip r:embed="rId2"/>
          <a:srcRect l="15610" t="0" r="15610" b="0"/>
          <a:stretch/>
        </p:blipFill>
        <p:spPr>
          <a:xfrm>
            <a:off x="4643280" y="549360"/>
            <a:ext cx="3814920" cy="55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cc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is the gradual change in the species composition of an area over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mary Succ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a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cces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ccurs in an area that has no plants, animals, or s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s with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oneer spec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uch as lich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cession on a lava flow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youtube.com/watch?v=TLpc71YOt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ary Succ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 after a disturbance in an eco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urbances can be natural (forest fires, floods, etc.) or due to human activity (e.g., deforestation, mining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ur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succession to occur in parks, etc., resulting in an increase in biodiversity &amp; a more stable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Content Placeholder 6" descr="20090716naturalization.jpg"/>
          <p:cNvPicPr/>
          <p:nvPr/>
        </p:nvPicPr>
        <p:blipFill>
          <a:blip r:embed="rId1"/>
          <a:srcRect l="15278" t="0" r="15278" b="0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sexual Reproduction in Seed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exual Rep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d plants reproduce both sexually &amp; asex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ts use structures on stems, leaves, or roots to reproduce asex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plants grow through mitosis &amp; cell division of existing cells, so offspring are cl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asexual_reproduction_in_potato_plants"/>
          <p:cNvPicPr/>
          <p:nvPr/>
        </p:nvPicPr>
        <p:blipFill>
          <a:blip r:embed="rId1"/>
          <a:stretch/>
        </p:blipFill>
        <p:spPr>
          <a:xfrm>
            <a:off x="693720" y="609480"/>
            <a:ext cx="77551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_shot_2011-11-30_at_1"/>
          <p:cNvPicPr/>
          <p:nvPr/>
        </p:nvPicPr>
        <p:blipFill>
          <a:blip r:embed="rId1"/>
          <a:stretch/>
        </p:blipFill>
        <p:spPr>
          <a:xfrm>
            <a:off x="685800" y="1554120"/>
            <a:ext cx="777240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5T11:15:55Z</dcterms:created>
  <dc:creator>rubina khan</dc:creator>
  <dc:description/>
  <dc:language>en-US</dc:language>
  <cp:lastModifiedBy>rubina khan</cp:lastModifiedBy>
  <dcterms:modified xsi:type="dcterms:W3CDTF">2016-03-21T19:18:39Z</dcterms:modified>
  <cp:revision>44</cp:revision>
  <dc:subject/>
  <dc:title>Succession</dc:title>
</cp:coreProperties>
</file>